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A41F-518A-492E-9862-481A120A2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C04D-229E-4CE7-917A-740A3962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8E7B-247F-4352-A2B2-2053DCFAF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1050-62CF-448F-A445-1A2D2A79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2FD9-07D9-4DDC-8B1A-6C0A046D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7F6E-7DEE-4A69-88ED-3B66C380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F97A-50A9-4A14-8501-1599E3DD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48A8-A4F0-415B-9B52-8A984454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E18A-A55E-4595-99FA-ABEA115F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110B-CB6F-417B-9DF3-3ADD5A44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E392-FFD3-4AB2-B74B-CCB341B7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9292-75C7-4CAB-9C29-EE244A6D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2b71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134D-497C-4938-ABA5-04F4FAF1FF5C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08360" y="2349360"/>
            <a:ext cx="47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Best practices for the use of HAZ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51280" y="1413000"/>
            <a:ext cx="4527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b71"/>
                </a:solidFill>
                <a:latin typeface="Verdana"/>
              </a:rPr>
              <a:t>SSN Workshop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b71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2b71"/>
                </a:solidFill>
                <a:latin typeface="Verdana"/>
              </a:rPr>
              <a:t>Lisbon 11-12 June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60760" y="479736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b71"/>
                </a:solidFill>
                <a:latin typeface="Verdana"/>
              </a:rPr>
              <a:t>Lisbon, 12</a:t>
            </a:r>
            <a:r>
              <a:rPr b="1" lang="en-US" sz="1600" spc="-1" strike="noStrike" baseline="30000">
                <a:solidFill>
                  <a:srgbClr val="002b71"/>
                </a:solidFill>
                <a:latin typeface="Verdana"/>
              </a:rPr>
              <a:t>th</a:t>
            </a:r>
            <a:r>
              <a:rPr b="1" lang="en-US" sz="1600" spc="-1" strike="noStrike">
                <a:solidFill>
                  <a:srgbClr val="002b71"/>
                </a:solidFill>
                <a:latin typeface="Verdana"/>
              </a:rPr>
              <a:t>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2645-E231-4741-8461-4527D969D29E}" type="slidenum">
              <a:t>1</a:t>
            </a:fld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11970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8c7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1916280"/>
            <a:ext cx="7490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ome MS (NO, FI, RO) request automatically for HAZMAT and/or Port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SSN 10 concerns has been raised about the automatic request of HAZMAT Det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E670-BD0A-4942-AFA6-6738E7860A29}" type="slidenum">
              <a:t>2</a:t>
            </a:fld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4360" y="26028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8c7"/>
                </a:solidFill>
                <a:latin typeface="Verdana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197000"/>
            <a:ext cx="7848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use of the request / response mechanism is encouraged by EMSA (82000 week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he cargo manifest should be requested only in case of emerg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f the PortPlus message is implemented the 2 following attributes may be requested to avoid asking the whole set of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azmatOnBoardYorN (response = Y or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Gclassification (response =type of IMO code related to the cargo e.g IMDG, IBC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3FA9-0F5A-42A1-93FE-A2E856EE13DA}" type="slidenum">
              <a:t>3</a:t>
            </a:fld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95280" y="260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8c7"/>
                </a:solidFill>
                <a:latin typeface="Verdana"/>
              </a:rPr>
              <a:t>PROPOSAL in the current SS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162864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700280"/>
            <a:ext cx="784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16000" y="4653000"/>
            <a:ext cx="7345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b71"/>
                </a:solidFill>
                <a:latin typeface="Verdana"/>
              </a:rPr>
              <a:t></a:t>
            </a:r>
            <a:r>
              <a:rPr b="0" lang="fr-FR" sz="2000" spc="-1" strike="noStrike">
                <a:solidFill>
                  <a:srgbClr val="002b71"/>
                </a:solidFill>
                <a:latin typeface="Verdana"/>
              </a:rPr>
              <a:t>According to the access right already implemented in SSN for port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b71"/>
                </a:solidFill>
                <a:latin typeface="Verdana"/>
              </a:rPr>
              <a:t></a:t>
            </a:r>
            <a:r>
              <a:rPr b="0" lang="fr-FR" sz="2000" spc="-1" strike="noStrike">
                <a:solidFill>
                  <a:srgbClr val="002b71"/>
                </a:solidFill>
                <a:latin typeface="Verdana"/>
              </a:rPr>
              <a:t>See explanation in SSN 11.3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1700280"/>
            <a:ext cx="7632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68360" y="1052640"/>
          <a:ext cx="8064360" cy="4537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052640"/>
                    <a:ext cx="806436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2D11-B97C-4DC3-A8FD-692468F766B9}" type="slidenum">
              <a:t>4</a:t>
            </a:fld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619280" y="1890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8c7"/>
                </a:solidFill>
                <a:latin typeface="Verdana"/>
              </a:rPr>
              <a:t>PROPOSAL (if PortPlus agre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162864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1700280"/>
            <a:ext cx="784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1700280"/>
            <a:ext cx="7632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58920" y="1628640"/>
            <a:ext cx="6408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1628640"/>
            <a:ext cx="748800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2b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b71"/>
                </a:solidFill>
                <a:latin typeface="Verdana"/>
              </a:rPr>
              <a:t>Hazmat cargoInformation</a:t>
            </a:r>
            <a:r>
              <a:rPr b="0" lang="fr-FR" sz="2000" spc="-1" strike="noStrike">
                <a:solidFill>
                  <a:srgbClr val="002b71"/>
                </a:solidFill>
                <a:latin typeface="Verdana"/>
              </a:rPr>
              <a:t> (elemen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2b71"/>
                </a:solidFill>
                <a:latin typeface="Verdana"/>
              </a:rPr>
              <a:t>- HazmatOnBoardY/N (presence of DPG on board Yes or N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2b71"/>
                </a:solidFill>
                <a:latin typeface="Verdana"/>
              </a:rPr>
              <a:t>- DG classification (IMO code applicable to the cargo e.g </a:t>
            </a:r>
            <a:r>
              <a:rPr b="0" lang="fr-FR" sz="20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2b71"/>
                </a:solidFill>
                <a:latin typeface="Verdana"/>
              </a:rPr>
              <a:t>IMDG, IBC, IGC…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2b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b71"/>
                </a:solidFill>
                <a:latin typeface="Verdana"/>
              </a:rPr>
              <a:t>Request upon this </a:t>
            </a:r>
            <a:r>
              <a:rPr b="1" lang="fr-FR" sz="2000" spc="-1" strike="noStrike">
                <a:solidFill>
                  <a:srgbClr val="002b71"/>
                </a:solidFill>
                <a:latin typeface="Verdana"/>
              </a:rPr>
              <a:t>Hazmat cargoInformation </a:t>
            </a:r>
            <a:r>
              <a:rPr b="0" lang="fr-FR" sz="2000" spc="-1" strike="noStrike">
                <a:solidFill>
                  <a:srgbClr val="002b71"/>
                </a:solidFill>
                <a:latin typeface="Verdana"/>
              </a:rPr>
              <a:t>w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2b71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b71"/>
                </a:solidFill>
                <a:latin typeface="Verdana"/>
              </a:rPr>
              <a:t>Provide the basic information (see the elements abo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2b71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b71"/>
                </a:solidFill>
                <a:latin typeface="Verdana"/>
              </a:rPr>
              <a:t>Not require the full set of det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2b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CC32-C75E-47FF-92F9-23DA7617C989}" type="slidenum">
              <a:t>5</a:t>
            </a:fld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47640" y="1890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8c7"/>
                </a:solidFill>
                <a:latin typeface="Verdana"/>
              </a:rPr>
              <a:t>PROPOSAL (if PortPlus agre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162864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700280"/>
            <a:ext cx="784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4941720"/>
            <a:ext cx="7345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b71"/>
                </a:solidFill>
                <a:latin typeface="Verdana"/>
              </a:rPr>
              <a:t></a:t>
            </a:r>
            <a:r>
              <a:rPr b="0" lang="fr-FR" sz="1600" spc="-1" strike="noStrike">
                <a:solidFill>
                  <a:srgbClr val="002b71"/>
                </a:solidFill>
                <a:latin typeface="Verdana"/>
              </a:rPr>
              <a:t>According to the access right already implemented in SSN for port u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b71"/>
                </a:solidFill>
                <a:latin typeface="Verdana"/>
              </a:rPr>
              <a:t></a:t>
            </a:r>
            <a:r>
              <a:rPr b="0" lang="fr-FR" sz="1600" spc="-1" strike="noStrike">
                <a:solidFill>
                  <a:srgbClr val="002b71"/>
                </a:solidFill>
                <a:latin typeface="Verdana"/>
              </a:rPr>
              <a:t>See explanation in SSN 11.3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1700280"/>
            <a:ext cx="7632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1700280"/>
            <a:ext cx="7777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24000" y="1125360"/>
          <a:ext cx="8351640" cy="4608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25360"/>
                    <a:ext cx="83516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258920" y="1628640"/>
            <a:ext cx="6408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1AC6-0925-4C82-89D2-1792769FA6C1}" type="slidenum">
              <a:t>6</a:t>
            </a:fld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11:39:15Z</dcterms:created>
  <dc:creator>lopezin</dc:creator>
  <dc:description/>
  <dc:language>en-US</dc:language>
  <cp:lastModifiedBy>lemoaya</cp:lastModifiedBy>
  <cp:lastPrinted>2004-03-26T09:05:49Z</cp:lastPrinted>
  <dcterms:modified xsi:type="dcterms:W3CDTF">2009-06-09T13:57:26Z</dcterms:modified>
  <cp:revision>110</cp:revision>
  <dc:subject/>
  <dc:title>Slide 1</dc:title>
</cp:coreProperties>
</file>